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6349-4C80-48BA-A6C1-A7ABB9B11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29EC-F5F2-43DD-90B1-B58331861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2FCC-50DA-4C5A-B251-32674BF2E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44C-6808-45AA-A40F-3E03C4A8B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79D9-EBA4-4FA1-AD6F-02B139BE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6E59-E234-44A4-8110-90D27A1B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256-83D2-4CD7-A6F9-4DF0030B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88D3-5E12-4428-8D20-FBBD2E37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8BB-F3B0-4385-B016-5F6A53EC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6467-30B5-4144-972C-A031F087F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AF32-1395-4644-A2C4-D61AC864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B2D9-A25A-43FA-A0B4-CB91D606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9821-9C52-4469-B325-62B5759B6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00080" y="1038240"/>
          <a:ext cx="714528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1038240"/>
                    <a:ext cx="714528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22:31:47Z</dcterms:created>
  <dc:creator>Michael DiFrancesco</dc:creator>
  <dc:description/>
  <dc:language>en-US</dc:language>
  <cp:lastModifiedBy>Michael DiFrancesco</cp:lastModifiedBy>
  <dcterms:modified xsi:type="dcterms:W3CDTF">2007-11-22T22:32:18Z</dcterms:modified>
  <cp:revision>1</cp:revision>
  <dc:subject/>
  <dc:title>PowerPoint Presentation</dc:title>
</cp:coreProperties>
</file>